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722-048E-435E-A449-A6FC40C3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A95-231C-451B-9D98-21AD478D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22F-E664-4515-A961-A587362E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1DB-233C-434C-9A47-8AEFFA23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40B-79D5-4CE8-AC14-B6692AF5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C87-D68F-4852-8CC2-84B38D5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44C-3BFD-4CA3-BC87-676EDCA0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095-CEE7-4B62-A13D-42FB1EDB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5E4-5061-47AB-929D-F5A8DBE3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BEA-86BA-42DC-9638-372A774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7318-F89B-45CB-A444-54B6050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FE4-8C61-4293-8A65-9B202E9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63D3-90C2-4464-8F23-4DD1122BE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s1-1a" descr=""/>
          <p:cNvPicPr/>
          <p:nvPr/>
        </p:nvPicPr>
        <p:blipFill>
          <a:blip r:embed="rId1"/>
          <a:srcRect l="3214" t="4787" r="8690" b="0"/>
          <a:stretch/>
        </p:blipFill>
        <p:spPr>
          <a:xfrm>
            <a:off x="4881600" y="4267080"/>
            <a:ext cx="3271680" cy="1812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</a:t>
            </a:r>
            <a:br>
              <a:rPr sz="1600"/>
            </a:b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RUCK CONFIGU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37200" y="144792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CK WITHOUT CR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0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29080" y="3936960"/>
            <a:ext cx="209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CK WITH CRA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1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s1-1b" descr=""/>
          <p:cNvPicPr/>
          <p:nvPr/>
        </p:nvPicPr>
        <p:blipFill>
          <a:blip r:embed="rId2"/>
          <a:srcRect l="1833" t="3444" r="686" b="3020"/>
          <a:stretch/>
        </p:blipFill>
        <p:spPr>
          <a:xfrm>
            <a:off x="1600200" y="4562640"/>
            <a:ext cx="2989440" cy="1527120"/>
          </a:xfrm>
          <a:prstGeom prst="rect">
            <a:avLst/>
          </a:prstGeom>
          <a:ln w="0">
            <a:noFill/>
          </a:ln>
        </p:spPr>
      </p:pic>
      <p:pic>
        <p:nvPicPr>
          <p:cNvPr id="46" name="pls1-1c" descr=""/>
          <p:cNvPicPr/>
          <p:nvPr/>
        </p:nvPicPr>
        <p:blipFill>
          <a:blip r:embed="rId3"/>
          <a:srcRect l="2927" t="4671" r="1250" b="1164"/>
          <a:stretch/>
        </p:blipFill>
        <p:spPr>
          <a:xfrm>
            <a:off x="4827600" y="1905120"/>
            <a:ext cx="3217680" cy="1698480"/>
          </a:xfrm>
          <a:prstGeom prst="rect">
            <a:avLst/>
          </a:prstGeom>
          <a:ln w="0">
            <a:noFill/>
          </a:ln>
        </p:spPr>
      </p:pic>
      <p:pic>
        <p:nvPicPr>
          <p:cNvPr id="47" name="pls1-1d" descr=""/>
          <p:cNvPicPr/>
          <p:nvPr/>
        </p:nvPicPr>
        <p:blipFill>
          <a:blip r:embed="rId4"/>
          <a:srcRect l="2932" t="3831" r="2932" b="3831"/>
          <a:stretch/>
        </p:blipFill>
        <p:spPr>
          <a:xfrm>
            <a:off x="1627200" y="2143080"/>
            <a:ext cx="293364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COMPONENTS AND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ls1-10" descr=""/>
          <p:cNvPicPr/>
          <p:nvPr/>
        </p:nvPicPr>
        <p:blipFill>
          <a:blip r:embed="rId1"/>
          <a:srcRect l="1684" t="38426" r="2992" b="2032"/>
          <a:stretch/>
        </p:blipFill>
        <p:spPr>
          <a:xfrm>
            <a:off x="1790640" y="2133720"/>
            <a:ext cx="556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ls1-11" descr=""/>
          <p:cNvPicPr/>
          <p:nvPr/>
        </p:nvPicPr>
        <p:blipFill>
          <a:blip r:embed="rId1"/>
          <a:srcRect l="1832" t="11595" r="4240" b="2292"/>
          <a:stretch/>
        </p:blipFill>
        <p:spPr>
          <a:xfrm>
            <a:off x="1600200" y="1066680"/>
            <a:ext cx="5943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s1-12" descr=""/>
          <p:cNvPicPr/>
          <p:nvPr/>
        </p:nvPicPr>
        <p:blipFill>
          <a:blip r:embed="rId1"/>
          <a:srcRect l="1680" t="9598" r="3980" b="0"/>
          <a:stretch/>
        </p:blipFill>
        <p:spPr>
          <a:xfrm>
            <a:off x="1447920" y="609480"/>
            <a:ext cx="624816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ls1-13" descr=""/>
          <p:cNvPicPr/>
          <p:nvPr/>
        </p:nvPicPr>
        <p:blipFill>
          <a:blip r:embed="rId1"/>
          <a:srcRect l="0" t="9767" r="2092" b="0"/>
          <a:stretch/>
        </p:blipFill>
        <p:spPr>
          <a:xfrm>
            <a:off x="1378080" y="685800"/>
            <a:ext cx="63864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ls1-14" descr=""/>
          <p:cNvPicPr/>
          <p:nvPr/>
        </p:nvPicPr>
        <p:blipFill>
          <a:blip r:embed="rId1"/>
          <a:srcRect l="3050" t="14121" r="4363" b="2592"/>
          <a:stretch/>
        </p:blipFill>
        <p:spPr>
          <a:xfrm>
            <a:off x="1943280" y="990720"/>
            <a:ext cx="5257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ls1-15" descr=""/>
          <p:cNvPicPr/>
          <p:nvPr/>
        </p:nvPicPr>
        <p:blipFill>
          <a:blip r:embed="rId1"/>
          <a:srcRect l="2715" t="14158" r="4151" b="1086"/>
          <a:stretch/>
        </p:blipFill>
        <p:spPr>
          <a:xfrm>
            <a:off x="2095560" y="129528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ls1-16" descr=""/>
          <p:cNvPicPr/>
          <p:nvPr/>
        </p:nvPicPr>
        <p:blipFill>
          <a:blip r:embed="rId1"/>
          <a:srcRect l="1021" t="9801" r="4761" b="3096"/>
          <a:stretch/>
        </p:blipFill>
        <p:spPr>
          <a:xfrm>
            <a:off x="1714680" y="1143000"/>
            <a:ext cx="5715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1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OT PED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ls2-1" descr=""/>
          <p:cNvPicPr/>
          <p:nvPr/>
        </p:nvPicPr>
        <p:blipFill>
          <a:blip r:embed="rId1"/>
          <a:srcRect l="0" t="29063" r="5348" b="26012"/>
          <a:stretch/>
        </p:blipFill>
        <p:spPr>
          <a:xfrm>
            <a:off x="1986120" y="1641600"/>
            <a:ext cx="5173560" cy="293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68520" y="5105520"/>
            <a:ext cx="240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ERVICE BRAKE TRE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HROTTL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ERING COLUMN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98520" y="4952880"/>
            <a:ext cx="294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MERGENCY FLASHER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EERING WH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ORN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TURN SIGNAL L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TRAILER HANDBRAK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DIMMER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ls2-2" descr=""/>
          <p:cNvPicPr/>
          <p:nvPr/>
        </p:nvPicPr>
        <p:blipFill>
          <a:blip r:embed="rId1"/>
          <a:srcRect l="2748" t="20637" r="5881" b="20637"/>
          <a:stretch/>
        </p:blipFill>
        <p:spPr>
          <a:xfrm>
            <a:off x="2222640" y="1143000"/>
            <a:ext cx="46987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33080" y="5030640"/>
            <a:ext cx="287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EFT TURN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ENGINE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IGH BEAM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TRAILER FLATRACK UN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ENGINE LOW OIL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TRANSMISSION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HIGH WATER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33720" y="1447920"/>
            <a:ext cx="4876560" cy="3352680"/>
            <a:chOff x="2133720" y="1447920"/>
            <a:chExt cx="4876560" cy="3352680"/>
          </a:xfrm>
        </p:grpSpPr>
        <p:pic>
          <p:nvPicPr>
            <p:cNvPr id="98" name="pls2-3" descr=""/>
            <p:cNvPicPr/>
            <p:nvPr/>
          </p:nvPicPr>
          <p:blipFill>
            <a:blip r:embed="rId1"/>
            <a:srcRect l="4115" t="4321" r="8114" b="541"/>
            <a:stretch/>
          </p:blipFill>
          <p:spPr>
            <a:xfrm>
              <a:off x="2133720" y="1447920"/>
              <a:ext cx="48765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flipV="1">
              <a:off x="2666880" y="2971440"/>
              <a:ext cx="91440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522520" y="4495680"/>
              <a:ext cx="252360" cy="246240"/>
              <a:chOff x="2522520" y="4495680"/>
              <a:chExt cx="25236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522520" y="4495680"/>
                <a:ext cx="2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533680" y="4503600"/>
                <a:ext cx="228600" cy="2286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2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IGHT SID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ls1-2" descr=""/>
          <p:cNvPicPr/>
          <p:nvPr/>
        </p:nvPicPr>
        <p:blipFill>
          <a:blip r:embed="rId1"/>
          <a:srcRect l="2615" t="11382" r="1332" b="29777"/>
          <a:stretch/>
        </p:blipFill>
        <p:spPr>
          <a:xfrm>
            <a:off x="1714680" y="1676520"/>
            <a:ext cx="5715000" cy="24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11760" y="4648320"/>
            <a:ext cx="312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ELF RECOVERY WIN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TOWAGE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HYDRAULIC OIL RESERVO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MUFF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SPARE T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COLLAPSIBLE LADDER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1228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LHS NO TRANS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LHS OVER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HS EN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AUX. HYDRAU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HYDRAULIC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ls2-4" descr=""/>
          <p:cNvPicPr/>
          <p:nvPr/>
        </p:nvPicPr>
        <p:blipFill>
          <a:blip r:embed="rId1"/>
          <a:srcRect l="1684" t="17257" r="2992" b="29022"/>
          <a:stretch/>
        </p:blipFill>
        <p:spPr>
          <a:xfrm>
            <a:off x="1790640" y="1371600"/>
            <a:ext cx="5562720" cy="312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952880" y="51228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EMERG ST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OIL PRESS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WATER TEMP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TRANS TEMP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 FUEL 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2736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TACHOMETER/HOUR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SPEEDOMETER/OD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LOW AIR/LOW HYDRAULIC OIL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KILOMETER/OD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527364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OIL/WATER 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VOLTMETER (12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VOLTMETER (24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ls2-5" descr=""/>
          <p:cNvPicPr/>
          <p:nvPr/>
        </p:nvPicPr>
        <p:blipFill>
          <a:blip r:embed="rId1"/>
          <a:srcRect l="3277" t="13435" r="3277" b="23698"/>
          <a:stretch/>
        </p:blipFill>
        <p:spPr>
          <a:xfrm>
            <a:off x="1219320" y="990720"/>
            <a:ext cx="6705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5273640"/>
            <a:ext cx="243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NGINE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DRIV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RIGHT TURN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CHECK GAU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LOW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27364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PARKING BR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RHEOSTA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HEADLIGHT/CLEARANCE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DOME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ls2-6" descr=""/>
          <p:cNvPicPr/>
          <p:nvPr/>
        </p:nvPicPr>
        <p:blipFill>
          <a:blip r:embed="rId1"/>
          <a:srcRect l="2493" t="12990" r="3484" b="30936"/>
          <a:stretch/>
        </p:blipFill>
        <p:spPr>
          <a:xfrm>
            <a:off x="952560" y="11430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RU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10552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WORK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BEACON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BLACKOUT LIGH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BLACKOUT DRIV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BLACKOUT MARK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5105520"/>
            <a:ext cx="2895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ENGINE BRAK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WINDSHIELD WASH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WINDSHIELD WIPE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.  ENGINE ON/OFF/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. ETHER START BUT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ls2-7" descr=""/>
          <p:cNvPicPr/>
          <p:nvPr/>
        </p:nvPicPr>
        <p:blipFill>
          <a:blip r:embed="rId1"/>
          <a:srcRect l="0" t="17835" r="0" b="24724"/>
          <a:stretch/>
        </p:blipFill>
        <p:spPr>
          <a:xfrm>
            <a:off x="1538280" y="1219320"/>
            <a:ext cx="6067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IS CONTROL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531972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ROTARY SELECTO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OVERSPEED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LOW AI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STAR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SHUT-DOW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ls2-8" descr=""/>
          <p:cNvPicPr/>
          <p:nvPr/>
        </p:nvPicPr>
        <p:blipFill>
          <a:blip r:embed="rId1"/>
          <a:srcRect l="1350" t="1773" r="2949" b="4424"/>
          <a:stretch/>
        </p:blipFill>
        <p:spPr>
          <a:xfrm>
            <a:off x="1866960" y="1066680"/>
            <a:ext cx="5410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2-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R GAUGES AND BRAKE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76400" y="5502240"/>
            <a:ext cx="339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AIR PRESSURE G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AIR FILTER RESTRICTION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PARKING BRAK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TRAILER AIR SUPPLY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ls2-9" descr=""/>
          <p:cNvPicPr/>
          <p:nvPr/>
        </p:nvPicPr>
        <p:blipFill>
          <a:blip r:embed="rId1"/>
          <a:srcRect l="18066" t="16518" r="23108" b="24906"/>
          <a:stretch/>
        </p:blipFill>
        <p:spPr>
          <a:xfrm>
            <a:off x="3238560" y="990720"/>
            <a:ext cx="2666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3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FT SIDE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ls1-3" descr=""/>
          <p:cNvPicPr/>
          <p:nvPr/>
        </p:nvPicPr>
        <p:blipFill>
          <a:blip r:embed="rId1"/>
          <a:srcRect l="1556" t="20251" r="2772" b="28515"/>
          <a:stretch/>
        </p:blipFill>
        <p:spPr>
          <a:xfrm>
            <a:off x="1638360" y="1600200"/>
            <a:ext cx="5867280" cy="2362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84360" y="4419720"/>
            <a:ext cx="237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AIR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BATTERY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CONTROL BOX (LH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AIR DR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FUEL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FUEL/WATER SEPA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4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LER (PLST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0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75320" y="5319720"/>
            <a:ext cx="3398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EXTENDABLE DRAW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TURNTABLE-TYPE STEERING AX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SPARE TIRE AND TIRE CARRIER W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STOWAGE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DATA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ls1-4" descr=""/>
          <p:cNvPicPr/>
          <p:nvPr/>
        </p:nvPicPr>
        <p:blipFill>
          <a:blip r:embed="rId1"/>
          <a:srcRect l="3520" t="18442" r="2295" b="18419"/>
          <a:stretch/>
        </p:blipFill>
        <p:spPr>
          <a:xfrm>
            <a:off x="1641600" y="1371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333440" y="838080"/>
          <a:ext cx="64771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838080"/>
                    <a:ext cx="64771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5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TRA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10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04920" y="4572000"/>
            <a:ext cx="313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STORAGE COMPA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.  HOOK 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.  VISUAL MAR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.  CARGO TIE-DOWN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.  POCKETS FOR FORKLIF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.  ISO MALE LOCK - AT EACH CO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  ROLLERS -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.  SID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6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RUCK WEIGHT AND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57480" y="1828800"/>
          <a:ext cx="66276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828800"/>
                    <a:ext cx="6627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7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RUCK AND TRAILER WEIGHTS AND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1562040"/>
            <a:ext cx="7467840" cy="3733920"/>
            <a:chOff x="838080" y="1562040"/>
            <a:chExt cx="7467840" cy="3733920"/>
          </a:xfrm>
        </p:grpSpPr>
        <p:graphicFrame>
          <p:nvGraphicFramePr>
            <p:cNvPr id="66" name=""/>
            <p:cNvGraphicFramePr/>
            <p:nvPr/>
          </p:nvGraphicFramePr>
          <p:xfrm>
            <a:off x="838080" y="1562040"/>
            <a:ext cx="7467840" cy="373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562040"/>
                      <a:ext cx="7467840" cy="373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7467480" y="251460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2400" y="2514600"/>
              <a:ext cx="0" cy="762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8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RUCK AND TRAILER CAP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ls1-8" descr=""/>
          <p:cNvPicPr/>
          <p:nvPr/>
        </p:nvPicPr>
        <p:blipFill>
          <a:blip r:embed="rId1"/>
          <a:srcRect l="887" t="28951" r="4142" b="35425"/>
          <a:stretch/>
        </p:blipFill>
        <p:spPr>
          <a:xfrm>
            <a:off x="1257480" y="2438280"/>
            <a:ext cx="6629400" cy="167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77840" y="4419720"/>
            <a:ext cx="338832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EHICLE AT GCW CA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end and descend a 30 %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on a 20 % side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k on a 30 % grade, up or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d to a depth of 48 in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tain a speed of 55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pproximately 225 miles without refu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1-9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S TURNING 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ls1-9" descr=""/>
          <p:cNvPicPr/>
          <p:nvPr/>
        </p:nvPicPr>
        <p:blipFill>
          <a:blip r:embed="rId1"/>
          <a:srcRect l="2527" t="16884" r="2527" b="2842"/>
          <a:stretch/>
        </p:blipFill>
        <p:spPr>
          <a:xfrm>
            <a:off x="1676520" y="1295280"/>
            <a:ext cx="5790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9T19:12:18Z</dcterms:created>
  <dc:creator>John Ritter</dc:creator>
  <dc:description/>
  <dc:language>en-US</dc:language>
  <cp:lastModifiedBy>John Ritter</cp:lastModifiedBy>
  <cp:lastPrinted>1999-01-25T21:09:21Z</cp:lastPrinted>
  <dcterms:modified xsi:type="dcterms:W3CDTF">1999-02-01T15:06:11Z</dcterms:modified>
  <cp:revision>14</cp:revision>
  <dc:subject/>
  <dc:title>PLS 1-1  TRUCK CONFIGURATIONS</dc:title>
</cp:coreProperties>
</file>